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7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003320" y="726840"/>
            <a:ext cx="4851360" cy="363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7"/>
          </p:nvPr>
        </p:nvSpPr>
        <p:spPr>
          <a:xfrm>
            <a:off x="-36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8"/>
          </p:nvPr>
        </p:nvSpPr>
        <p:spPr>
          <a:xfrm>
            <a:off x="388440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0E3E-8005-4626-A3BF-DC1E1299E4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1C42-D7C8-45FE-99C5-9C44CDB263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8BC5-1935-40AB-9531-2F6C06E79E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EQUENZWAH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[…]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REGULIERTE Frequenzbereich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schränkung von  * Bandgrenzen, * Zuteilungsstatus, * Leistung, * max. Bandbreit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80m parallel mit Co-Primär mit Seefunkdiens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gl. letzte Woch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usätzlich Bandpläne &gt;innerhalb&lt; der Bereiche – je nach Betriebsart 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D21-21B9-4154-8B45-22E1E553D5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ach der FREQUENZWAH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. HÖR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urzwelle: Tote Zone &gt; eventuell hört man nur einen Gesprächspartner (er einen aber auch !)  ca. 2-3 Minu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stellungen an Funkgerät / Verstärker korrekt? / Überbl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chtige Antenne gewäh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&gt; Los geht‘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. ALLGEMEINER ANRU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t CQ (I seek you – NICHT QRZ o.ä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. GEZIELTER ALLGEMEINER ANRU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üdamer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. DIREKTER ANRU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4. … oder in Runde reinruf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48D4-80DB-4A34-976D-3E5B8D052F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urzwelle: Tote Zone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&lt; Beim Namen wird nur der Vorname genannt. Man ist immer per „Du“ unter den Funkamateu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 NENNUNG im Buchstabieralphabet Sprich: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EL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A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OS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AR eins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L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ECH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NO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VE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urzwelle: Anfang und Ende des Durchgangs (damit man weiß, wer gemeint i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SETZ: mindestens &gt;Anfang&lt; und &gt;Ende&lt; des Durchgangs und alle &gt;zehn&lt;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a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SL-Karte (Klick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Rückse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AKTISCHER TE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e weiß man, in welchen Frequenzband es gute Ausbreitungsmöglichkeiten gib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onnenfleckenrelativzahlen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34C1-221B-4211-85C8-45DCD97A74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unkwetterberichte („Vorhersage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Sonnenflec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 Tageszeit (Day /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68CE-A3A8-4C2C-83BF-AA25520385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kürzung FD (Fieldday) -&gt; auch als Wettbew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318B-C87D-4E72-BB4B-21F16CD3FE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rekt als Funkwettbew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Verband ausgericht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Lok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Weltweite Konteste (meist am Wochenen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iel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– bestimmte Zeit, möglichst viele Verbindu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andbedingu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LLW (Leuchttürme usw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: Hier von Portabelstandort (Wohnwa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&gt; Station in groß auf nächster Fol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13CE-5CAD-4486-A475-BFD7198A1C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beschr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- WICHTIG: IARU-Bandpläne – Bereiche für Konteste bea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75E-509E-4B2D-B841-25785408E6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unkwettbewerbe – DX Expediti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andpläne „DX-Fenster (Frequenzen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icht nur Wohnwagen, weit we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ltene Stationen, teils sehr gefra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le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litverkehr ist häufig „3-up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USATZ:  3Y0A (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CE9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)   Antarktis  (Süden)  --  sehr selten zu hören  -- Pingu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C1A6-2400-446C-B4A9-15EC15C92E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9D5C-8BCD-4678-B1D7-A86B49BCD9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# Im See- und Flugfunkdien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Notzeich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zeigt an, dass ein &gt;&gt;See- oder Luftfahrzeug&lt;&lt;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von ernster und unmittelbar bevorstehender Gefahr bedroht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Dringlichkeitszeich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kündigt an, dass die rufende Funkstelle eine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sehr dringende Meldung zu senden hat, die die Sicherheit eines See- oder Luftfahrzeugs oder einer Perso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betrif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Sicherheitszeich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kündigt an, dass die rufende Funkstelle eine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wichtige nautische Warnung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u senden 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#  NOTRUF GEHÖ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obachten Sie die Frequenz!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tmeldung &gt;bereits von einer Rettungsorganisation beantwortet&lt; ?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nn nicht, nehmen Sie mit der Station Funkkontakt au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age: Standort, bei einem Segelboot als Längen- und Breitengr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formation &gt;an die Polizei&lt; und bitten Sie diese &gt;um Weitergabe an die zuständigen Rettungsorganisationen&l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Nehmen Sie &gt;wieder Funkkontakt&lt; mit der in Not befindlichen Station auf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&gt;bestätigen&lt; der Weitergabe der Notfunkmeld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# WICHTI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gt;&gt; Der Funkamateur selbst darf die Not- und Sicherheitszeichen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niemals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gebrauchen. [!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BDE3-509D-4831-9C23-767538E771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tfunkfrequenzen – Frequenzzentren beim Taifun in den Philippinen [bitte freihalt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Meldung] vom 08.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nnte Frequenz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,095 MHz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weltwei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44,740 MHz (lokal / region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Notfunk-Koordinator der IARU-Reg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K3PC [&lt;&lt; welches Land?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D09-BA86-4608-8D82-DAAA210811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tfunkfrequenzen – Zentren beim Taifun in den Philippi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ldung vom 08.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nnte Frequenz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,095 MHz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weltwei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44,740 MHz (lokal / region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Notfunk-Koordinator der IARU-Reg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K3PC [&lt;&lt; welches Land?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ink: http://cluster.f5len.org/index.php?p=at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AGE ins Publiku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weiterklicken]  ( VK: Australi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0D45-FEAE-4911-81AF-442A8557B1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tfunkfrequenzen – Zentren beim Taifun in den Philippi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ldung vom 08.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nnte Frequenz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,095 MHz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weltwei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44,740 MHz (lokal / region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Notfunk-Koordinator der IARU-Reg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K3PC [&lt;&lt; welches Land?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 VK: Australi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ink: http://cluster.f5len.org/index.php?p=at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5ABE-43B3-453B-9457-0A2CAF9AF5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W-Bänder Klasse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iveDemo =&gt; Niederlande / WebS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ch nicht ausprobiert, aber ganz witzig, wenn man sich selbst weltweit hö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2605-EABA-4955-83DC-F9392FBA35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B92-3654-4CD7-88CF-324087B166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E663-A3E3-4844-A7AF-E348EDFE2C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&gt; SIEHE FOL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r kennt diese Frequenz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ordnung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ttelwelle 0,500-1,800 MHz Radio: Beromünster (europaweit empfangb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urzwelle 1,800-30,000 MHz Radio: Deutsche Welle (welltweit empfangb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ltrakurzwelle 50,000-1000,000 MHz Radio: Lokale Radiosender, FM4, BR3 (regional empfangb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1 : Konstan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2 : Amer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3 : Mün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iele Wellen können sich überlagern, dadurch flächendeckend alle Stationen erreichb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uelle _ amateurfunklehrgang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zwischen kein Empfang ! =&gt; Diese Stationen werden auch nicht gehö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EC7-8BAA-409B-857C-CFA77951C5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ltweite Ausbreitung -&gt; Rufzeichen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B9 – Schwe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B0 – Liechte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E – Österre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 – Frankre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5 – Slowen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A - Kroat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 – Ital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A – Ru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 – Vereinigte Staaten von Amer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2505-20B7-4545-87BE-E99571A44D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ltweite Ausbreitung -&gt; Rufzeichen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B9 – Schwe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B0 – Liechte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E – Österre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 – Frankre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5 – Slowen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A - Kroat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 – Ital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A – Ru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 – Vereinigte Staaten von Amer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493C-2183-4D0F-BCFB-5DAF5C118A8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2F47-3CB5-414A-98C2-076F9DBF8B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r kennt diese Frequenz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ordnung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ittelwelle 0,500-1,800 MHz Radio: Beromünster (europaweit empfangb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urzwelle 1,800-30,000 MHz Radio: Deutsche Welle (welltweit empfangb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ltrakurzwelle 50,000-1000,000 MHz Radio: Radio7, FM4, SWR (regional empfangb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1 : Konstan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2 : Amer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on 3 : Mün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Frequenzengehen in den Weltraum. Satellitenfernsehen ist ebenfalls im hohen Frequenzbereich (12 G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epeater = Wiederholer, empfängt auf einer Frequenz und sendet das empfangene auf einer anderen Frequenz wieder a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6A2-3F42-49D4-87A9-5A390F973D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equenzmodulation deutlicher, natürlicher Klang, ist einfach zu verste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equenzraster muss genau eingehalten werden 25 kHz oder 12,5 k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04EB-19E4-456B-B89A-A622C411AA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EQUENZWAH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Tageszeit (Wellenausbrei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UF (maximal usable 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ntfernung (Tote Zone,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WEITER 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&gt; REGULIERTE Frequenzbereiche !  Bandpläne ! (je nach Betriebsart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satoris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ormationen über die Mailing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lists.darc.de/mailman/listinfo/lizkurs_c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seite Ortsverband München-Sü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www.darc.de/c/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ammelte Inf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wiki.muc.ccc.de/afu-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ächster Termi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r, 29. November 19 Uhr lok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7680" y="2276640"/>
            <a:ext cx="8086680" cy="2881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equenzwah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C825-E1F7-4505-BDF1-CB79D7EF1F5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feld 5"/>
          <p:cNvSpPr/>
          <p:nvPr/>
        </p:nvSpPr>
        <p:spPr>
          <a:xfrm>
            <a:off x="971640" y="5373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W-Bänder Klasse E – </a:t>
            </a:r>
            <a:r>
              <a:rPr b="1" lang="de-DE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darc.de/referate/hf/bandplaen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inn einer Funk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28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reie Frequ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u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inhö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vor allem auf Kurzwelle wichtig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Is this frequency in use?“ – „Ist diese Frequenz besetzt?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llgem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irek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ruf start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legraphi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Q CQ CQ DE DO1LEN DO1LEN DO1LEN”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zielter Anruf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Q South America this is DO1LEN”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prechfunk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lgemeiner Anruf von DO1LEN ”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oder reinrufen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Funk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erbind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wort auf einen CQ-R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EA5AZW, hier ist DO1LEN […] EA5AZW von DO1L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A2A6-893E-4047-B3DB-B02D1F01110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ährend und nach einer Funk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2852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ufzeichen ne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„[…] EA5AZW von DO1LEN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verbindung bewerten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QSL-Karte austaus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527-D21E-4567-A465-A736EE3034A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Vorderseite einer QSL-Karte"/>
          <p:cNvPicPr/>
          <p:nvPr/>
        </p:nvPicPr>
        <p:blipFill>
          <a:blip r:embed="rId1"/>
          <a:stretch/>
        </p:blipFill>
        <p:spPr>
          <a:xfrm>
            <a:off x="900000" y="3213000"/>
            <a:ext cx="5327640" cy="3424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Typische Rückseite einer QSL-Karte"/>
          <p:cNvPicPr/>
          <p:nvPr/>
        </p:nvPicPr>
        <p:blipFill>
          <a:blip r:embed="rId2"/>
          <a:stretch/>
        </p:blipFill>
        <p:spPr>
          <a:xfrm>
            <a:off x="468360" y="1309680"/>
            <a:ext cx="8342280" cy="53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baken - Testen weltweiter Ausbr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ken senden in folgenden Ber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,099 - 14,101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8,109 - 18,111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1,149 - 21,151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,929 - 24,931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8,190 - 28,22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feld 4"/>
          <p:cNvSpPr/>
          <p:nvPr/>
        </p:nvSpPr>
        <p:spPr>
          <a:xfrm>
            <a:off x="684360" y="508464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feld 7"/>
          <p:cNvSpPr/>
          <p:nvPr/>
        </p:nvSpPr>
        <p:spPr>
          <a:xfrm>
            <a:off x="569520" y="5013360"/>
            <a:ext cx="748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sendung: jeweils mit dem Rufzei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folgt von vier Dauerstr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nderleistung im Sekundentakt von 100 auf 10, dann au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zuletzt auf 0,1 Watt reduziert wi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3662640"/>
          </a:xfrm>
          <a:prstGeom prst="rect">
            <a:avLst/>
          </a:prstGeom>
          <a:ln w="0">
            <a:noFill/>
          </a:ln>
        </p:spPr>
      </p:pic>
      <p:sp>
        <p:nvSpPr>
          <p:cNvPr id="272" name="Textfeld 7"/>
          <p:cNvSpPr/>
          <p:nvPr/>
        </p:nvSpPr>
        <p:spPr>
          <a:xfrm>
            <a:off x="705600" y="5950080"/>
            <a:ext cx="79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kwetterberichte / Ausbreitungstools (Sonnenflecken / Fl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feld 7"/>
          <p:cNvSpPr/>
          <p:nvPr/>
        </p:nvSpPr>
        <p:spPr>
          <a:xfrm>
            <a:off x="847080" y="15987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hamqsl.com/solar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eld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geräte werden an einem exponierten Standort aufgeba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Wochenende mit Funkbetrieb, Lagerfeuer, und viel Sp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4" descr="I:\Markt der Möglichkeiten 2007\Field051.jpg"/>
          <p:cNvPicPr/>
          <p:nvPr/>
        </p:nvPicPr>
        <p:blipFill>
          <a:blip r:embed="rId1"/>
          <a:stretch/>
        </p:blipFill>
        <p:spPr>
          <a:xfrm>
            <a:off x="1523880" y="1828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I:\Markt der Möglichkeiten 2007\Field053.jpg"/>
          <p:cNvPicPr/>
          <p:nvPr/>
        </p:nvPicPr>
        <p:blipFill>
          <a:blip r:embed="rId2"/>
          <a:stretch/>
        </p:blipFill>
        <p:spPr>
          <a:xfrm>
            <a:off x="4191120" y="2286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I:\Markt der Möglichkeiten 2007\Field062.jpg"/>
          <p:cNvPicPr/>
          <p:nvPr/>
        </p:nvPicPr>
        <p:blipFill>
          <a:blip r:embed="rId3"/>
          <a:stretch/>
        </p:blipFill>
        <p:spPr>
          <a:xfrm>
            <a:off x="762120" y="38098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80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02CB-9C4E-4A9A-BC64-0C5315FDAB7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8108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wettbew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51BC-383B-43A8-A0CB-5B9AD8862D3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" descr="Aufbau einer Conteststation"/>
          <p:cNvPicPr/>
          <p:nvPr/>
        </p:nvPicPr>
        <p:blipFill>
          <a:blip r:embed="rId1"/>
          <a:stretch/>
        </p:blipFill>
        <p:spPr>
          <a:xfrm>
            <a:off x="611280" y="2421000"/>
            <a:ext cx="5545080" cy="4164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Funkbetrieb auf einem Contest"/>
          <p:cNvPicPr/>
          <p:nvPr/>
        </p:nvPicPr>
        <p:blipFill>
          <a:blip r:embed="rId2"/>
          <a:stretch/>
        </p:blipFill>
        <p:spPr>
          <a:xfrm>
            <a:off x="4819680" y="1765440"/>
            <a:ext cx="43243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98108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wettbew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6ACA-67FD-410F-958F-E8D8B0508B8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Funkbetrieb auf einem Contest"/>
          <p:cNvPicPr/>
          <p:nvPr/>
        </p:nvPicPr>
        <p:blipFill>
          <a:blip r:embed="rId1"/>
          <a:stretch/>
        </p:blipFill>
        <p:spPr>
          <a:xfrm>
            <a:off x="4819680" y="1765440"/>
            <a:ext cx="4324320" cy="324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ufbau einer Conteststation"/>
          <p:cNvPicPr/>
          <p:nvPr/>
        </p:nvPicPr>
        <p:blipFill>
          <a:blip r:embed="rId2"/>
          <a:stretch/>
        </p:blipFill>
        <p:spPr>
          <a:xfrm>
            <a:off x="684360" y="2414520"/>
            <a:ext cx="57592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29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03665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tzei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28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E781-6480-46FE-A55B-04A7E33DAE8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8353440" cy="738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el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510000"/>
            <a:ext cx="777240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ausbreitung auf Kurzwelle, Betriebs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262920"/>
          </a:xfrm>
          <a:prstGeom prst="rect">
            <a:avLst/>
          </a:prstGeom>
          <a:ln w="0">
            <a:noFill/>
          </a:ln>
        </p:spPr>
      </p:pic>
      <p:sp>
        <p:nvSpPr>
          <p:cNvPr id="302" name="Textfeld 7"/>
          <p:cNvSpPr/>
          <p:nvPr/>
        </p:nvSpPr>
        <p:spPr>
          <a:xfrm>
            <a:off x="433440" y="6505560"/>
            <a:ext cx="84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22228b"/>
                </a:solidFill>
                <a:uFillTx/>
                <a:latin typeface="Times New Roman"/>
              </a:rPr>
              <a:t>http://www.darc.de/referate/notfunk/meldungen/meldungen-details/article/philippinen-erneut-von-taifun-betroffen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262920"/>
          </a:xfrm>
          <a:prstGeom prst="rect">
            <a:avLst/>
          </a:prstGeom>
          <a:ln w="0">
            <a:noFill/>
          </a:ln>
        </p:spPr>
      </p:pic>
      <p:sp>
        <p:nvSpPr>
          <p:cNvPr id="304" name="Textfeld 7"/>
          <p:cNvSpPr/>
          <p:nvPr/>
        </p:nvSpPr>
        <p:spPr>
          <a:xfrm>
            <a:off x="433440" y="6505560"/>
            <a:ext cx="84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22228b"/>
                </a:solidFill>
                <a:uFillTx/>
                <a:latin typeface="Times New Roman"/>
              </a:rPr>
              <a:t>http://www.darc.de/referate/notfunk/meldungen/meldungen-details/article/philippinen-erneut-von-taifun-betroffen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feld 9"/>
          <p:cNvSpPr/>
          <p:nvPr/>
        </p:nvSpPr>
        <p:spPr>
          <a:xfrm>
            <a:off x="539640" y="1335240"/>
            <a:ext cx="8353440" cy="55803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ldung vo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K3P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Notfunk-Koordinator IARU-Reg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age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welchem Land kommt 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ttp://cluster.f5len.org/index.php?p=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262920"/>
          </a:xfrm>
          <a:prstGeom prst="rect">
            <a:avLst/>
          </a:prstGeom>
          <a:ln w="0">
            <a:noFill/>
          </a:ln>
        </p:spPr>
      </p:pic>
      <p:sp>
        <p:nvSpPr>
          <p:cNvPr id="307" name="Textfeld 7"/>
          <p:cNvSpPr/>
          <p:nvPr/>
        </p:nvSpPr>
        <p:spPr>
          <a:xfrm>
            <a:off x="433440" y="6505560"/>
            <a:ext cx="84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22228b"/>
                </a:solidFill>
                <a:uFillTx/>
                <a:latin typeface="Times New Roman"/>
              </a:rPr>
              <a:t>http://www.darc.de/referate/notfunk/meldungen/meldungen-details/article/philippinen-erneut-von-taifun-betroffen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5" descr="http://cluster.f5len.org/atlas/cartes/VK.png"/>
          <p:cNvPicPr/>
          <p:nvPr/>
        </p:nvPicPr>
        <p:blipFill>
          <a:blip r:embed="rId2"/>
          <a:stretch/>
        </p:blipFill>
        <p:spPr>
          <a:xfrm>
            <a:off x="291960" y="936720"/>
            <a:ext cx="8601120" cy="587700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9"/>
          <p:cNvSpPr/>
          <p:nvPr/>
        </p:nvSpPr>
        <p:spPr>
          <a:xfrm>
            <a:off x="4714560" y="-2700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ttp://cluster.f5len.org/index.php?p=at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7128000" cy="3092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8086680" cy="2879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685800" y="1699920"/>
            <a:ext cx="77724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paar Prüfungsfragen zur KW-Betriebstechni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ier kl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VE-Demo Webempfänger (websdr.org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ier klicken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feld 5"/>
          <p:cNvSpPr/>
          <p:nvPr/>
        </p:nvSpPr>
        <p:spPr>
          <a:xfrm>
            <a:off x="971640" y="6381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W-Bänder Klasse E – </a:t>
            </a:r>
            <a:r>
              <a:rPr b="1" lang="de-DE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darc.de/referate/hf/bandplaen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ächste Woche: Fr, 29. November 19 Uhr lo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15CC-4D45-4097-AE5C-5DD00D9F655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feld 6"/>
          <p:cNvSpPr/>
          <p:nvPr/>
        </p:nvSpPr>
        <p:spPr>
          <a:xfrm>
            <a:off x="0" y="3429000"/>
            <a:ext cx="9144000" cy="37515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Fragen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5440" y="1981080"/>
            <a:ext cx="52434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,800 MHz bis 30,0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nosphäre entsteht durch Son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lexionen in der Ionosphär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an der Erdoberfläch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chweite: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ltwe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breitung tageszeit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/sonnenabhäng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indung von</a:t>
            </a:r>
            <a:br>
              <a:rPr sz="2000"/>
            </a:b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Konstanz (Station 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ünchen (Station 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Amerika (Station 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ög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7B79-ED83-4446-BC85-4E8429967FD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J:\Siemens 2008\Ausbreitung KW.gif"/>
          <p:cNvPicPr/>
          <p:nvPr/>
        </p:nvPicPr>
        <p:blipFill>
          <a:blip r:embed="rId1"/>
          <a:stretch/>
        </p:blipFill>
        <p:spPr>
          <a:xfrm>
            <a:off x="5473800" y="1836720"/>
            <a:ext cx="3170160" cy="3235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685800" y="1295280"/>
            <a:ext cx="52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breitung: Kurzw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t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5800" y="6073560"/>
            <a:ext cx="7772400" cy="523800"/>
          </a:xfrm>
          <a:prstGeom prst="rect">
            <a:avLst/>
          </a:prstGeom>
          <a:ln w="0">
            <a:noFill/>
          </a:ln>
        </p:spPr>
      </p:pic>
      <p:sp>
        <p:nvSpPr>
          <p:cNvPr id="21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" descr="Zeichnung: Eckart Moltrecht, DJ4UF"/>
          <p:cNvPicPr/>
          <p:nvPr/>
        </p:nvPicPr>
        <p:blipFill>
          <a:blip r:embed="rId2"/>
          <a:stretch/>
        </p:blipFill>
        <p:spPr>
          <a:xfrm>
            <a:off x="684360" y="2276640"/>
            <a:ext cx="7540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indungen mit ausländischen St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0720"/>
            <a:ext cx="702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ufzeichenpräfix – kurze WIEDERHOLUNG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B9 – Schwe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B0 – Liechte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 – Öster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 – 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5 – Slowe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A - Kroa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 – 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 – Rus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 – Vereinigte Staaten von Ame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CAE-FC8D-4259-9C98-E9FCBE87975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C:\Programme\Orbitron\Data\World-Coloured.bmp"/>
          <p:cNvPicPr/>
          <p:nvPr/>
        </p:nvPicPr>
        <p:blipFill>
          <a:blip r:embed="rId1"/>
          <a:stretch/>
        </p:blipFill>
        <p:spPr>
          <a:xfrm>
            <a:off x="5715000" y="2770200"/>
            <a:ext cx="301788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indungen mit ausländischen St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980720"/>
            <a:ext cx="702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ufzeichenpräfix – kurze WIEDERHOLUNG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B9 – Schwe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B0 – Liechte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 – Öster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 – 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5 – Slowe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A - Kroa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 – 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 – Rus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 – Vereinigte Staaten von Ame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0EDF-1660-4EE5-94B8-49CA30F2D92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feld 5"/>
          <p:cNvSpPr/>
          <p:nvPr/>
        </p:nvSpPr>
        <p:spPr>
          <a:xfrm>
            <a:off x="4284720" y="2637000"/>
            <a:ext cx="1295280" cy="36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feld 6"/>
          <p:cNvSpPr/>
          <p:nvPr/>
        </p:nvSpPr>
        <p:spPr>
          <a:xfrm>
            <a:off x="4067280" y="2987640"/>
            <a:ext cx="1512720" cy="37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feld 7"/>
          <p:cNvSpPr/>
          <p:nvPr/>
        </p:nvSpPr>
        <p:spPr>
          <a:xfrm>
            <a:off x="4140360" y="3274920"/>
            <a:ext cx="1439640" cy="37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feld 8"/>
          <p:cNvSpPr/>
          <p:nvPr/>
        </p:nvSpPr>
        <p:spPr>
          <a:xfrm>
            <a:off x="4067280" y="3645000"/>
            <a:ext cx="1512720" cy="36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feld 9"/>
          <p:cNvSpPr/>
          <p:nvPr/>
        </p:nvSpPr>
        <p:spPr>
          <a:xfrm>
            <a:off x="4140360" y="4005360"/>
            <a:ext cx="1439640" cy="36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feld 10"/>
          <p:cNvSpPr/>
          <p:nvPr/>
        </p:nvSpPr>
        <p:spPr>
          <a:xfrm>
            <a:off x="4211640" y="4292640"/>
            <a:ext cx="1368360" cy="36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feld 11"/>
          <p:cNvSpPr/>
          <p:nvPr/>
        </p:nvSpPr>
        <p:spPr>
          <a:xfrm>
            <a:off x="4284720" y="4653000"/>
            <a:ext cx="1295280" cy="36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feld 12"/>
          <p:cNvSpPr/>
          <p:nvPr/>
        </p:nvSpPr>
        <p:spPr>
          <a:xfrm>
            <a:off x="4211640" y="4941720"/>
            <a:ext cx="1368360" cy="36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feld 13"/>
          <p:cNvSpPr/>
          <p:nvPr/>
        </p:nvSpPr>
        <p:spPr>
          <a:xfrm>
            <a:off x="3059280" y="5300640"/>
            <a:ext cx="3241440" cy="37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1835280" y="3943440"/>
            <a:ext cx="4465440" cy="1861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C:\Programme\Orbitron\Data\World-Coloured.bmp"/>
          <p:cNvPicPr/>
          <p:nvPr/>
        </p:nvPicPr>
        <p:blipFill>
          <a:blip r:embed="rId1"/>
          <a:stretch/>
        </p:blipFill>
        <p:spPr>
          <a:xfrm>
            <a:off x="5715000" y="2770200"/>
            <a:ext cx="301788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52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breitung: Ultrakurz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980720"/>
            <a:ext cx="560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,000 MHz bis 1000,0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dringen die Ionosphä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chtähnliche, geradlini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b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chweite: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ur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chweitenerhöhung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aisstationen/Rep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durch Verbindung</a:t>
            </a:r>
            <a:br>
              <a:rPr sz="2000"/>
            </a:b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Konstanz (Station 1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ünchen (Station 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Amerika (Station 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ehr erreich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C418-4B59-4DE2-BC95-192DD6D8748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5" descr="J:\Siemens 2008\Ausbreitung UKW_2.gif"/>
          <p:cNvPicPr/>
          <p:nvPr/>
        </p:nvPicPr>
        <p:blipFill>
          <a:blip r:embed="rId1"/>
          <a:stretch/>
        </p:blipFill>
        <p:spPr>
          <a:xfrm>
            <a:off x="5773680" y="1096920"/>
            <a:ext cx="315612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440" y="1785960"/>
            <a:ext cx="6100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Relais in der Umgeb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B0ZU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spitz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5,725 MHz (2 m) und 438,850 MHz (70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K0T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plinger Ber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5,750 MHz (2 m) und 438, 700 MHz (70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9XVJ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änder bei Bregenz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38,875 MHz (70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B9UF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äntis bei Sankt G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38,750 MHz (70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rektfrequ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 2 m-Band (25 kHz-R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5,225 MHz bis 145,57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7CE-525B-4632-91D8-B98F08A059B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715080" y="3929040"/>
            <a:ext cx="22860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equenzwahl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28880"/>
            <a:ext cx="815328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reie Frequ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u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geszeit (Wellenausb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F (maximal usable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fernung (tote Z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ndpläne (Betriebs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A4E1-D2E0-407C-AD61-A2641FAEED3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Textfeld 7"/>
          <p:cNvGrpSpPr/>
          <p:nvPr/>
        </p:nvGrpSpPr>
        <p:grpSpPr>
          <a:xfrm>
            <a:off x="944640" y="3981600"/>
            <a:ext cx="4761000" cy="2627280"/>
            <a:chOff x="944640" y="3981600"/>
            <a:chExt cx="4761000" cy="2627280"/>
          </a:xfrm>
        </p:grpSpPr>
        <p:pic>
          <p:nvPicPr>
            <p:cNvPr id="251" name="Textfeld 7" descr=""/>
            <p:cNvPicPr/>
            <p:nvPr/>
          </p:nvPicPr>
          <p:blipFill>
            <a:blip r:embed="rId1"/>
            <a:stretch/>
          </p:blipFill>
          <p:spPr>
            <a:xfrm>
              <a:off x="944640" y="3981600"/>
              <a:ext cx="47610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71640" y="4005360"/>
              <a:ext cx="4716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1,810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-     2,000 Mhz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 160 Meter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3,500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-     3,800 Mhz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 80 Meter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7,000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-     7,200 Mhz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 40 Meter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10,100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-   10,150 Mhz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( 30 Meter ) WA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14,000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-   14,350 Mhz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 20 Meter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18,068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-   18,168 Mhz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( 17 Meter ) WA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21,000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-   21,450 Mhz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 15 Meter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24,890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-   24,990 Mhz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( 12 Meter ) WA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28,000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-   29,700 Mhz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 10 Meter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16:25Z</dcterms:created>
  <dc:creator>vtk2006; Dominik Bok</dc:creator>
  <dc:description/>
  <dc:language>en-US</dc:language>
  <cp:lastModifiedBy>user</cp:lastModifiedBy>
  <dcterms:modified xsi:type="dcterms:W3CDTF">2015-01-05T16:24:45Z</dcterms:modified>
  <cp:revision>186</cp:revision>
  <dc:subject/>
  <dc:title>PowerPoint-Präsentation</dc:title>
</cp:coreProperties>
</file>